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CE2A3-C0E4-4F2B-ACC6-6973B8CB7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C08C9-3B6D-4090-82B1-A2AD81DC5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122A8-AC3B-47A3-9871-BB521E215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AAC7F-A405-4D70-809F-76BEAEB65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D3757-4056-4FC0-8FA2-25FBEF20D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EE77E-3720-4E32-B9D2-BC3FC53CB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69F9D-963A-48E3-B202-97A6FE404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4C2F7-DC7A-4622-B037-D31658750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01E37-286D-42DB-9D04-4F41C773A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82715-8392-4805-AEE4-3F1B87C93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142F5-F0E5-4348-A9C0-E70B7A6F0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B38C1-FF0D-4B87-A7D7-CF7BAA66B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5C362-242A-4657-A539-C82D6C0259AC}" type="slidenum">
              <a:rPr b="0" lang="ko-K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0920" y="2205000"/>
            <a:ext cx="7543800" cy="259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독도가 한국영토인 근거</a:t>
            </a: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675e47"/>
                </a:solidFill>
                <a:latin typeface="Cambria"/>
              </a:rPr>
              <a:t>-</a:t>
            </a: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지리적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5300280"/>
            <a:ext cx="6462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 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1611888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영학과  안소민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는 우리땅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3" name="그림 2" descr=""/>
          <p:cNvPicPr/>
          <p:nvPr/>
        </p:nvPicPr>
        <p:blipFill>
          <a:blip r:embed="rId2"/>
          <a:stretch/>
        </p:blipFill>
        <p:spPr>
          <a:xfrm>
            <a:off x="2131920" y="1341360"/>
            <a:ext cx="4564080" cy="2952720"/>
          </a:xfrm>
          <a:prstGeom prst="rect">
            <a:avLst/>
          </a:prstGeom>
          <a:ln w="0">
            <a:noFill/>
          </a:ln>
        </p:spPr>
      </p:pic>
      <p:sp>
        <p:nvSpPr>
          <p:cNvPr id="74" name="TextBox 3"/>
          <p:cNvSpPr/>
          <p:nvPr/>
        </p:nvSpPr>
        <p:spPr>
          <a:xfrm>
            <a:off x="1763640" y="4530600"/>
            <a:ext cx="5846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0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월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25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일 독도의 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 동남쪽 뱃길 따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7K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외로운 섬 하나 새들의 고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누가 아무리 자기네 땅이라 우겨도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는 우리 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468360" y="1700280"/>
            <a:ext cx="424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동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주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8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의 다른 이름 독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              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47" name="그림 4" descr=""/>
          <p:cNvPicPr/>
          <p:nvPr/>
        </p:nvPicPr>
        <p:blipFill>
          <a:blip r:embed="rId2"/>
          <a:stretch/>
        </p:blipFill>
        <p:spPr>
          <a:xfrm>
            <a:off x="2744640" y="3178080"/>
            <a:ext cx="4591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서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1187280" y="1484280"/>
            <a:ext cx="633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북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7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4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0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동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3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4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시설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발전기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어민 대피시설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기상측정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사가 가파른 봉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많은 동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3635280" y="3357720"/>
            <a:ext cx="43214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동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3276720" y="3500280"/>
            <a:ext cx="4680000" cy="310356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900000" y="1380960"/>
            <a:ext cx="64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서도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51m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떨어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높이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98.6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둘레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.8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면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3.297m2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선착장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(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관광객 맞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)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담수화 시설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우리나라와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5" name="그림 3" descr=""/>
          <p:cNvPicPr/>
          <p:nvPr/>
        </p:nvPicPr>
        <p:blipFill>
          <a:blip r:embed="rId2"/>
          <a:srcRect l="0" t="23407" r="61114" b="45886"/>
          <a:stretch/>
        </p:blipFill>
        <p:spPr>
          <a:xfrm>
            <a:off x="395280" y="4292640"/>
            <a:ext cx="3205080" cy="1806480"/>
          </a:xfrm>
          <a:prstGeom prst="rect">
            <a:avLst/>
          </a:prstGeom>
          <a:ln w="0">
            <a:noFill/>
          </a:ln>
        </p:spPr>
      </p:pic>
      <p:pic>
        <p:nvPicPr>
          <p:cNvPr id="56" name="그림 4" descr=""/>
          <p:cNvPicPr/>
          <p:nvPr/>
        </p:nvPicPr>
        <p:blipFill>
          <a:blip r:embed="rId3"/>
          <a:stretch/>
        </p:blipFill>
        <p:spPr>
          <a:xfrm>
            <a:off x="3851280" y="3500280"/>
            <a:ext cx="4241880" cy="289908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1042920" y="1711440"/>
            <a:ext cx="64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울릉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87.4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16.8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과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9" name="그림 2" descr=""/>
          <p:cNvPicPr/>
          <p:nvPr/>
        </p:nvPicPr>
        <p:blipFill>
          <a:blip r:embed="rId2"/>
          <a:srcRect l="22242" t="6434" r="0" b="13570"/>
          <a:stretch/>
        </p:blipFill>
        <p:spPr>
          <a:xfrm>
            <a:off x="2700360" y="3068640"/>
            <a:ext cx="3568680" cy="262080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971640" y="1773360"/>
            <a:ext cx="61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섬 오키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57.5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쓰에와 오키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0 k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한국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971640" y="1268280"/>
            <a:ext cx="714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의 울릉도와 독도가 더 가까움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에서 독도 육안으로 관측가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이사부가 독도 점령당시 독도는 울릉도의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3" name="그림 3" descr=""/>
          <p:cNvPicPr/>
          <p:nvPr/>
        </p:nvPicPr>
        <p:blipFill>
          <a:blip r:embed="rId2"/>
          <a:stretch/>
        </p:blipFill>
        <p:spPr>
          <a:xfrm>
            <a:off x="684360" y="2511360"/>
            <a:ext cx="3860640" cy="3862440"/>
          </a:xfrm>
          <a:prstGeom prst="rect">
            <a:avLst/>
          </a:prstGeom>
          <a:ln w="0">
            <a:noFill/>
          </a:ln>
        </p:spPr>
      </p:pic>
      <p:pic>
        <p:nvPicPr>
          <p:cNvPr id="64" name="그림 4" descr=""/>
          <p:cNvPicPr/>
          <p:nvPr/>
        </p:nvPicPr>
        <p:blipFill>
          <a:blip r:embed="rId3"/>
          <a:stretch/>
        </p:blipFill>
        <p:spPr>
          <a:xfrm>
            <a:off x="4859280" y="3087720"/>
            <a:ext cx="32860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6" name="그림 2" descr=""/>
          <p:cNvPicPr/>
          <p:nvPr/>
        </p:nvPicPr>
        <p:blipFill>
          <a:blip r:embed="rId2"/>
          <a:stretch/>
        </p:blipFill>
        <p:spPr>
          <a:xfrm>
            <a:off x="684360" y="1700280"/>
            <a:ext cx="3887640" cy="4667040"/>
          </a:xfrm>
          <a:prstGeom prst="rect">
            <a:avLst/>
          </a:prstGeom>
          <a:ln w="0">
            <a:noFill/>
          </a:ln>
        </p:spPr>
      </p:pic>
      <p:sp>
        <p:nvSpPr>
          <p:cNvPr id="67" name="TextBox 3"/>
          <p:cNvSpPr/>
          <p:nvPr/>
        </p:nvSpPr>
        <p:spPr>
          <a:xfrm>
            <a:off x="4835520" y="2448000"/>
            <a:ext cx="320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가 무주지라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음대로 규정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후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영토로 편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5435640" y="4581360"/>
            <a:ext cx="220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내각회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결정의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정당성 주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가 한국영토인 이유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1531800" y="1473120"/>
            <a:ext cx="5764320" cy="260352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1116000" y="4365720"/>
            <a:ext cx="67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지리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과 더 가까이 위치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실효적 지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현재 독도에 한국인 거주 및 지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법적 근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900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대한제국 칙령 제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4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호 발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선의 독도 영유권을 국제적으로 공표</a:t>
            </a:r>
            <a:br>
              <a:rPr sz="2400"/>
            </a:b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90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일본 발표보다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빠른 시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7T00:02:06Z</dcterms:created>
  <dc:creator>user</dc:creator>
  <dc:description/>
  <dc:language>en-US</dc:language>
  <cp:lastModifiedBy>LG</cp:lastModifiedBy>
  <dcterms:modified xsi:type="dcterms:W3CDTF">2017-03-29T01:57:47Z</dcterms:modified>
  <cp:revision>15</cp:revision>
  <dc:subject/>
  <dc:title>PowerPoint 프레젠테이션</dc:title>
</cp:coreProperties>
</file>